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8CA-F4CF-4022-B537-DA47AF66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BFD-1C76-47EE-8A17-9B39C645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536-467F-48B6-9EFD-92A05D6A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32A-2B38-44C2-AFC9-2FF6CE21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749-9FB2-44FD-9157-DDB5C0A3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CE5-FE0F-426B-8230-A22365BB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072-4168-4250-A901-924B5A16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9F6-DFA4-4FB5-977F-9AC3C609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BB4-927B-4F61-81CB-3507A9DB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084-C2C1-4225-9C94-4C6ACAE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60A-30B7-4CAE-894D-4DA6EA40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18D-B2B4-47EE-B4B0-16510C58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D46-6C13-4996-82DF-7E42456B7C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558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nit 1 The Clothes We 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58300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esson5 Days of the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56000" y="2276640"/>
            <a:ext cx="446400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39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’s pl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1484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Simon 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2781360"/>
            <a:ext cx="65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要求：根据指令做动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如果指令开头用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mon says”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就做出动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如果指令开头没有用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mon says”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则不做出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765000"/>
            <a:ext cx="1440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765000"/>
            <a:ext cx="1942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un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on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ues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dnes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hurs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i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tur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5080" y="790560"/>
            <a:ext cx="151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13080" y="836640"/>
            <a:ext cx="54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在西方，犹太教和基督教星期日要做礼拜，这一天他们叫做“礼拜日”，一星期七天称“一个礼拜”。敬神这样的事情自然要优先，所以放在每星期的第一天来做，于是星期日也就是每星期的第一天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另外，从语义上来说，</a:t>
            </a:r>
            <a:r>
              <a:rPr b="1" lang="en-US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Sunday</a:t>
            </a: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是太阳日的意思，太阳是所有天体中对人类来说最伟大的，这一天当然是一星期之中最重要的一天，自然应该用来敬神，也就是每星期的第一天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664000" cy="310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125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2133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It is a 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4005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微软雅黑"/>
              </a:rPr>
              <a:t>What day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317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1125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at day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2565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t is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Monda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844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at day is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toda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50864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How many days are there in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week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5157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re are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seve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days in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216000"/>
            <a:ext cx="6588000" cy="1412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413000"/>
            <a:ext cx="86342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1. 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He’s wearing red trouser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Sun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2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She’s wearing a green dres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Mon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3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She’s wearing a white sweater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Tues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4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He’s wearing a blue coat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Wednes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5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He’s wearing a brown short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Thurs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6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She’s wearing black shoe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Friday 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7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He’s wearing a yellow cap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Satur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76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’s s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800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700280"/>
            <a:ext cx="1872000" cy="3024000"/>
          </a:xfrm>
          <a:prstGeom prst="downArrowCallout">
            <a:avLst>
              <a:gd name="adj1" fmla="val 25002"/>
              <a:gd name="adj2" fmla="val 25000"/>
              <a:gd name="adj3" fmla="val 26923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47242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1700280"/>
            <a:ext cx="1800360" cy="3024000"/>
          </a:xfrm>
          <a:prstGeom prst="downArrowCallout">
            <a:avLst>
              <a:gd name="adj1" fmla="val 25002"/>
              <a:gd name="adj2" fmla="val 25000"/>
              <a:gd name="adj3" fmla="val 27994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2160" y="4724280"/>
            <a:ext cx="11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1700280"/>
            <a:ext cx="1800360" cy="3024000"/>
          </a:xfrm>
          <a:prstGeom prst="downArrowCallout">
            <a:avLst>
              <a:gd name="adj1" fmla="val 25002"/>
              <a:gd name="adj2" fmla="val 25000"/>
              <a:gd name="adj3" fmla="val 27994"/>
              <a:gd name="adj4" fmla="val 6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472428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fil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87640" y="1700280"/>
            <a:ext cx="1871640" cy="3024000"/>
          </a:xfrm>
          <a:prstGeom prst="downArrowCallout">
            <a:avLst>
              <a:gd name="adj1" fmla="val 25002"/>
              <a:gd name="adj2" fmla="val 25000"/>
              <a:gd name="adj3" fmla="val 26928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1700280"/>
            <a:ext cx="1871640" cy="3024000"/>
          </a:xfrm>
          <a:prstGeom prst="downArrowCallout">
            <a:avLst>
              <a:gd name="adj1" fmla="val 25002"/>
              <a:gd name="adj2" fmla="val 25000"/>
              <a:gd name="adj3" fmla="val 26928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4869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f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4797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/>
  <dcterms:modified xsi:type="dcterms:W3CDTF">2018-08-17T09:02:02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